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E1018-B233-4A56-B7C3-1700185B5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B5876-9C6B-4751-9C0A-31E9D6537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F3D7100E-6CF8-4E66-AA71-4238B9900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0C2DE-EA20-4CB8-96D6-3ED90BEF0EB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88368-0F35-4AF3-9408-4B377CB70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839CCFDB-A3E1-47AF-A783-FA12A1FA2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Поље индукције 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1-100 м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Највећи број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СТАЦИОНАРНИ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и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ОМЕНЉИВИ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МП који се користи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у терапијске сврхе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ди у овом опсегу индукција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Поље индукције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˃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 100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m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Ф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ункционишу као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улсни магнетни стимулатор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с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високим нивоом магнетне индукциј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; због изузетно високе густине ЕМ поља, може у току стимулације да изазове и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мишићну контракциј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себна погодност примене ових апарата је код: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успореног стварања калуса; остеопорозе; свих болних синдрома; пострауматских стања и спортских повреда; реуматских болесник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(и запаљенски, и дегенер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5F6B2-A22E-4ABD-A1C5-C429DDF646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A9B09-7E71-408D-86D5-0F4429B55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4A58FDAE-C919-4BAA-803A-E04FCF474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235CE-3678-45E0-BFFF-45DF18826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549BCB5A-E280-40D6-A959-7EF162FB8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CDE19-2ADD-4F6E-A7F1-42B0979AD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C52A10ED-4474-45C1-AEF2-EDF11A8EC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54868-9BCA-4DA1-9EA3-BA7F3AEDD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B412C5F9-B0F7-4F90-B34D-422AE76DC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778C5-B1A1-44C1-B7AD-068B7C69D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CDAF3804-2EA6-4F88-A46C-89658B5B5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326F3-5177-44DD-B954-C92E79CD49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20AE4-1151-4447-AF89-50C6EC39F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7E25131C-7BCD-4E98-B7F0-2DBCA804F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987D4-9DDA-4CC7-914D-8A511CEF2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38826806-ED3D-4EE3-9F7A-496793C10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3B286-BE8D-4018-BE42-49A86F3BB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910F2A73-A425-4B77-9C87-031A7B7E0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7B4A6-1197-465B-86C4-4240D84D1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44259E05-F886-40A8-8679-C5B6C926C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D5115-2DF4-40AA-9A60-A34D65A94A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9CBCE-2980-4382-9737-5D4D39E08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C6C0B7D1-77B9-4CF0-B96E-977F398A3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89345-BBAD-4AD2-89FA-218585F8E5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79CEF-5476-405A-9ABF-FE8D776EC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A1B6021D-5C3B-4050-A626-57418EDAF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1850D-9BFC-4730-9B8D-39E3A6D71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D2521C4F-3D0A-42A1-9B36-51E80C28B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E3016-44C1-4EE2-8DAF-82B3A72C1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FEBDA71F-83C7-47F9-9B47-090B11F43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1BF9C-30B5-44B6-9665-F2CB1CFEDA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D24CF-281A-433D-90FF-34D2B1C85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D2775252-666D-4639-BBB6-F4B29C083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3214D-25D4-4655-84D3-82BCA361C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A4055AE3-34B8-4F62-93D7-F229494D4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00DE8-84B5-4097-ADBD-3F888D67A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B0A5C0BA-0A0F-4602-8627-EF2DF28D5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F9386-F086-423A-BA05-604E48F0B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4479F2C5-731B-4653-8BA4-F85003C7A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4DBC0-57E2-4235-9515-766AD5DCE5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4CE99-9A59-4CE0-A2C1-2C14C7664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3DB7D980-D5BE-4176-925F-8DCA92B3E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DDB2E-9CC4-4E33-9931-B9559F806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E62F96DD-3A06-4DDC-9D02-A84AC5038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6E526-767A-40E4-A72F-9BB8798EF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8E2AAE49-1211-4871-A990-B18567E03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0963C-3B9D-4D40-B933-C85212C53C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6E26C-B653-4073-B80F-3E2C957F2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B10F5AB0-65CC-4FFC-9C70-9172B4692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A739A-807D-439A-BA21-8A633F1404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845C3-2E2B-452D-8732-3FAE615DB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03AE2157-6AF9-4B36-A255-985C73798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3284D-8954-410E-9A1F-B569951F78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2BD53-1BB9-47F5-8762-8037EB449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5CF39C7B-A1C9-41A1-B49F-8A826CE8C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3091E-7530-47BC-9B46-9C0A1D40A8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22720-B73B-452F-8DF0-E813B1CD2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36F1CC6A-A908-4D26-8572-271B872E2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B8544-61F0-4CFB-A0EC-5CD63DC9CF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66342-1502-49B6-92F5-C4F6732F0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975776EC-D22C-475A-816D-06C388677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16B13-33F3-448D-AB56-828289A3937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299C8-526E-489D-8F45-78A983532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D3CB3E5B-CE29-44FF-ACFA-209B1DDD4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76F31-66BD-4FDB-8D32-872BD64EA6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16FDD-49A7-433B-B840-DB02DB5ED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6041CD8C-4275-4806-90CB-F41180866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82A6B-498A-4AEE-86A7-A32191148E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C3838-A217-4182-A398-4AC42682E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2CE07E7D-98A6-482E-B6BA-02A6990DC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43017-EFE1-4773-BEFD-E94007E02C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21612-60F5-4A13-92CD-3E56F5786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22BD8517-4821-401F-AB10-FD00E6EF4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D20D3-1234-4388-BD5F-ACB3F6ABCE0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ECA93-4FBA-4D41-AED7-27273986F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B3B674DD-540B-4B7E-BA30-64AE92582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42113-E3BD-427F-80F5-783E1DEFF4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98625-6302-46DA-819D-EFD35CC90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05182CBE-F85E-445D-B10F-CB257470B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EA342-FF4E-425C-AA53-532218FEF3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D27D8-6A47-4601-AD17-FA4C91B07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D3236C47-BB8D-4DA3-B293-6AA092C03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B72A4-E5A4-40DE-A3F6-DB83AD03FD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3FA38-D885-4BBD-AA6A-123BD650B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FA28E5D7-3D71-48E6-B385-D0F5281D0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71B58-89F1-4E33-8997-D7496B01BD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C5B36-8CA5-4AD4-A3B7-B956CCA60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175FB7B3-5FA4-40FE-9562-8E97B3392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DCC1A-0306-4FBB-A1A5-5180D2AF6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BC0F64C9-18CD-41AA-B0E9-0A8A6D17B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E3F36-4F78-4FDB-BC30-BA8783165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7220D9B7-5D78-4B34-B48C-06537C937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F157D-1D72-470F-AABC-EF45A848E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77E3DE2B-83D7-4BF8-A6B0-71C8287BB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45880-9237-441E-8D2B-2C79B5392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ADCB6105-F4FA-4FA0-B829-ED711A792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CE1A2-9556-4184-A803-1AC270CD1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291EEC96-43A8-454C-9AD6-D4FC96472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0CF2E-79CD-458A-ADBA-ADED6717C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A1E23CB6-64AD-48DA-990B-FCA3ECA27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61B06-5E04-4464-99D5-6ED503D82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93C2E88F-FE75-4417-9886-D43C6F3F9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0C491-F448-4C93-8965-8F752339D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EA92A1AF-E314-4F0B-A587-1637209FD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222B0-40DB-48E0-8565-9954EA6F6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13D1B2D6-0A13-4692-8686-A7F8203CD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DA789-35A3-4EBD-9E53-C41F1F3B57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476A1-DEB3-4E06-83AD-C0D46BCC0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4F51C8AA-79D7-48C2-ABD4-A237AAFDE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ED918-8F7F-4ADB-A512-DAB495EDC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7CC2D260-7FAA-470A-A69C-D766B72CE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1707B-059D-46D2-A61E-AAC4CF051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11B5EA19-3073-4C20-9F70-8D724D51D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96A42-4B35-4C8C-8E12-FB3AA89D4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218EA929-EA31-4258-AD4F-D42DF8D66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938DF-936A-49D4-AC96-01E57139FB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0480"/>
                <a:tab algn="r" pos="869004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5F8BBD25-395E-43BA-917F-6C8C020EB177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0480"/>
                <a:tab algn="r" pos="869004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C25B6E3E-F845-4E66-9D5B-A770BFA6A8FA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Line 2"/>
          <p:cNvSpPr/>
          <p:nvPr/>
        </p:nvSpPr>
        <p:spPr>
          <a:xfrm>
            <a:off x="457200" y="1341360"/>
            <a:ext cx="8143920" cy="180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" name="Picture 3" descr=""/>
          <p:cNvPicPr/>
          <p:nvPr/>
        </p:nvPicPr>
        <p:blipFill>
          <a:blip r:embed="rId2"/>
          <a:stretch/>
        </p:blipFill>
        <p:spPr>
          <a:xfrm>
            <a:off x="7704000" y="1206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2280" y="6248520"/>
            <a:ext cx="3276720" cy="5331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9360" y="4662360"/>
            <a:ext cx="9134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ocent Dr. Igor Siman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340000" y="4437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3760" y="2611440"/>
            <a:ext cx="913464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1"/>
          <a:stretch/>
        </p:blipFill>
        <p:spPr>
          <a:xfrm>
            <a:off x="3635280" y="333360"/>
            <a:ext cx="1584360" cy="205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rescription of magnetotherapy</a:t>
            </a: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457200" y="1484280"/>
            <a:ext cx="84358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agnetic induction </a:t>
            </a:r>
            <a:r>
              <a:rPr b="0" lang="sr-Latn-CS" sz="22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1" lang="sr-Latn-CS" sz="2200" spc="-1" strike="noStrike">
                <a:solidFill>
                  <a:srgbClr val="ff0000"/>
                </a:solidFill>
                <a:latin typeface="Verdana"/>
              </a:rPr>
              <a:t>mT</a:t>
            </a:r>
            <a:r>
              <a:rPr b="0" lang="sr-Latn-CS" sz="22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 according to international norms: for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ow-frequenc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=10-30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m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 for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igh-frequenc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=0,5-1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Frequency</a:t>
            </a:r>
            <a:r>
              <a:rPr b="0" lang="sr-Latn-CS" sz="2200" spc="-1" strike="noStrike">
                <a:solidFill>
                  <a:srgbClr val="ff0000"/>
                </a:solidFill>
                <a:latin typeface="Verdana"/>
              </a:rPr>
              <a:t> (</a:t>
            </a:r>
            <a:r>
              <a:rPr b="1" lang="sr-Latn-CS" sz="2200" spc="-1" strike="noStrike">
                <a:solidFill>
                  <a:srgbClr val="ff0000"/>
                </a:solidFill>
                <a:latin typeface="Verdana"/>
              </a:rPr>
              <a:t>Hz</a:t>
            </a:r>
            <a:r>
              <a:rPr b="0" lang="sr-Latn-CS" sz="22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the choice depends on indication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Length of procedu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1 Тh unit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</a:rPr>
              <a:t>30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Number of procedure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a series: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unlimi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cute condition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er induction, lower ⱱ, shorter duration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hronic condition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igger induction, higher ⱱ, longer duratio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0000c"/>
                </a:solidFill>
                <a:latin typeface="Verdana"/>
              </a:rPr>
              <a:t>Indication area depending on the frequenc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8" name="Group 2"/>
          <p:cNvGrpSpPr/>
          <p:nvPr/>
        </p:nvGrpSpPr>
        <p:grpSpPr>
          <a:xfrm>
            <a:off x="457200" y="1484280"/>
            <a:ext cx="8140680" cy="5113080"/>
            <a:chOff x="457200" y="1484280"/>
            <a:chExt cx="8140680" cy="5113080"/>
          </a:xfrm>
        </p:grpSpPr>
        <p:sp>
          <p:nvSpPr>
            <p:cNvPr id="119" name="Rectangle 3"/>
            <p:cNvSpPr/>
            <p:nvPr/>
          </p:nvSpPr>
          <p:spPr>
            <a:xfrm>
              <a:off x="457200" y="1484280"/>
              <a:ext cx="2158920" cy="35712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Verdana"/>
                </a:rPr>
                <a:t>FREQUENCY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" name="Rectangle 4"/>
            <p:cNvSpPr/>
            <p:nvPr/>
          </p:nvSpPr>
          <p:spPr>
            <a:xfrm>
              <a:off x="2627280" y="1484280"/>
              <a:ext cx="5961240" cy="35712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Verdana"/>
                </a:rPr>
                <a:t>INDICATION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457200" y="185040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2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2627280" y="185040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All types of inflammation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457200" y="2215080"/>
              <a:ext cx="2158920" cy="3571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4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2627280" y="2215080"/>
              <a:ext cx="5961240" cy="3571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Bronchitis; Sleep disorder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457200" y="258012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6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2627280" y="258012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Hypertension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457200" y="2946600"/>
              <a:ext cx="215892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1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2627280" y="2946600"/>
              <a:ext cx="596124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Migraine; Poor circulation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457200" y="331308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11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2627280" y="331308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Gynecological complaint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457200" y="3676320"/>
              <a:ext cx="215892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12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2627280" y="3676320"/>
              <a:ext cx="596124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Wound healing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457200" y="4041000"/>
              <a:ext cx="2158920" cy="62136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18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2627280" y="4041000"/>
              <a:ext cx="5961240" cy="62136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Degenerative rheumatism; Extra-articular rheumatism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" name="Rectangle 19"/>
            <p:cNvSpPr/>
            <p:nvPr/>
          </p:nvSpPr>
          <p:spPr>
            <a:xfrm>
              <a:off x="457200" y="4671720"/>
              <a:ext cx="2158920" cy="3571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2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2627280" y="4671720"/>
              <a:ext cx="5961240" cy="3571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Post-traumatic condition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457200" y="503820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27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2627280" y="503820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Delayed fracture healing 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Rectangle 23"/>
            <p:cNvSpPr/>
            <p:nvPr/>
          </p:nvSpPr>
          <p:spPr>
            <a:xfrm>
              <a:off x="457200" y="5403240"/>
              <a:ext cx="215892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16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2627280" y="5403240"/>
              <a:ext cx="596124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Myositis, tendinitis, myalgia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Rectangle 25"/>
            <p:cNvSpPr/>
            <p:nvPr/>
          </p:nvSpPr>
          <p:spPr>
            <a:xfrm>
              <a:off x="457200" y="576972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32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Rectangle 26"/>
            <p:cNvSpPr/>
            <p:nvPr/>
          </p:nvSpPr>
          <p:spPr>
            <a:xfrm>
              <a:off x="2627280" y="576972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Lymphedema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Rectangle 27"/>
            <p:cNvSpPr/>
            <p:nvPr/>
          </p:nvSpPr>
          <p:spPr>
            <a:xfrm>
              <a:off x="457200" y="6134040"/>
              <a:ext cx="215892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64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Rectangle 28"/>
            <p:cNvSpPr/>
            <p:nvPr/>
          </p:nvSpPr>
          <p:spPr>
            <a:xfrm>
              <a:off x="2638440" y="6134040"/>
              <a:ext cx="5948280" cy="4633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Post-traumatic conditions; Degenerative rheumatism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>
              <a:off x="2627280" y="1484280"/>
              <a:ext cx="0" cy="5006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>
              <a:off x="457200" y="1850400"/>
              <a:ext cx="81313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>
              <a:off x="457200" y="221508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>
              <a:off x="457200" y="25801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Line 33"/>
            <p:cNvSpPr/>
            <p:nvPr/>
          </p:nvSpPr>
          <p:spPr>
            <a:xfrm>
              <a:off x="457200" y="294660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Line 34"/>
            <p:cNvSpPr/>
            <p:nvPr/>
          </p:nvSpPr>
          <p:spPr>
            <a:xfrm>
              <a:off x="457200" y="331308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Line 35"/>
            <p:cNvSpPr/>
            <p:nvPr/>
          </p:nvSpPr>
          <p:spPr>
            <a:xfrm>
              <a:off x="457200" y="36763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Line 36"/>
            <p:cNvSpPr/>
            <p:nvPr/>
          </p:nvSpPr>
          <p:spPr>
            <a:xfrm>
              <a:off x="457200" y="404100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" name="Line 37"/>
            <p:cNvSpPr/>
            <p:nvPr/>
          </p:nvSpPr>
          <p:spPr>
            <a:xfrm>
              <a:off x="457200" y="46717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" name="Line 38"/>
            <p:cNvSpPr/>
            <p:nvPr/>
          </p:nvSpPr>
          <p:spPr>
            <a:xfrm>
              <a:off x="457200" y="503820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Line 39"/>
            <p:cNvSpPr/>
            <p:nvPr/>
          </p:nvSpPr>
          <p:spPr>
            <a:xfrm>
              <a:off x="457200" y="540324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Line 40"/>
            <p:cNvSpPr/>
            <p:nvPr/>
          </p:nvSpPr>
          <p:spPr>
            <a:xfrm>
              <a:off x="457200" y="57697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Line 41"/>
            <p:cNvSpPr/>
            <p:nvPr/>
          </p:nvSpPr>
          <p:spPr>
            <a:xfrm>
              <a:off x="457200" y="613404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Line 42"/>
            <p:cNvSpPr/>
            <p:nvPr/>
          </p:nvSpPr>
          <p:spPr>
            <a:xfrm>
              <a:off x="457200" y="1484280"/>
              <a:ext cx="0" cy="5006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Line 43"/>
            <p:cNvSpPr/>
            <p:nvPr/>
          </p:nvSpPr>
          <p:spPr>
            <a:xfrm>
              <a:off x="8597880" y="1484280"/>
              <a:ext cx="0" cy="5006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Line 44"/>
            <p:cNvSpPr/>
            <p:nvPr/>
          </p:nvSpPr>
          <p:spPr>
            <a:xfrm>
              <a:off x="457200" y="148428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Line 45"/>
            <p:cNvSpPr/>
            <p:nvPr/>
          </p:nvSpPr>
          <p:spPr>
            <a:xfrm>
              <a:off x="457200" y="65005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flamm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rinary tract infec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str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pat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ndovagin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stheomyel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heumatic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lammatory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) disea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stat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lood flow disord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45080" y="2492280"/>
            <a:ext cx="404172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ipheral blood flow disord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M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a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nau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M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g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457200" y="186696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Neurological  disea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57200" y="2637000"/>
            <a:ext cx="4040280" cy="34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ipheral motor neuron les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yopath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entral motor neuron les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heumatic diseas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degenrative, extra-articular, inflammator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356000" y="1903320"/>
            <a:ext cx="4643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st-traumatic condi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ft-tissue injuri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ne fractur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st-traumatic edem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st-traumatic pai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mplanted cardiac pace-maker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due to interference with other electronic devices)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only absolute contraindication!!!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Acute deterioration of vital functions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the only absolute contraindication!!!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gnancy –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cause of the possibility of rapid partition of the embryonic tissue and because of changes in the blood flow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ildren during growth perio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Јuvenile diabet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yperthyroid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tive tuberculo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Serious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circulatory problems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which include atherosclerosis and thrombo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types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um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of the direct effect of MF on the cell growth, but also because of promotive thermal effect on proliferation of many malignant cells;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reatment of rheumatoid artriti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th strong high-frequency fields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3-30МHz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leads t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ep tissu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ating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ctivation of the enzyme collagenase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affect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breakdown of cartilla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the treated join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Advantages of 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365040" y="1371600"/>
            <a:ext cx="81439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mmediate application decreases time of the treat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Numerous indica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 small number of contraindication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ynergis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Non-contact method (clothes, plaster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thermal (metal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TC, PTG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One antenna for two patien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isadvantages of 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Humans do not have receptors for M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Milder effect – longer treat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Various effects in pati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Lack of liter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rocedure risk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It requires careful dos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t can cause complications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in case of an inadequate dose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F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500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T–1 Т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ⱱ=50–60 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airement of the organism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uring application of Мтh, radiation therapy is forbidden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Not above the carotid sinu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Caution in occlusive arterial disease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Caution in: nephrolythiasis and urolythiasi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ide-effects of МТ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: sedation, mild anxiety and disturbance of daily bioloical rhythm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152280" y="6248520"/>
            <a:ext cx="3276720" cy="5331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-36360" y="4226040"/>
            <a:ext cx="93056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LASER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ocent Dr. Igor Siman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52280" y="0"/>
            <a:ext cx="8928360" cy="2205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340000" y="4437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152280" y="2427120"/>
            <a:ext cx="9134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1"/>
          <a:stretch/>
        </p:blipFill>
        <p:spPr>
          <a:xfrm>
            <a:off x="3780000" y="222120"/>
            <a:ext cx="1584000" cy="205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The use of constant and variable magnetic field for the purposes of prevention, treatment and rehabilitation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The use of different types of magnetic field, which by having an effect on the patient's tissue cause different therapeutic effects.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t is important to select the type, dose and method of magnetotherapy that will successfully interfere with the magnetic biopotential of an individual and their geomagnetic fiel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Djurovic, 2014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Magnetis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— a phenomenon which allows objects to attract or repel each oth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DEFINITION OF LASER L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ght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plification by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timulated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ission of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di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urce of a very focused beam of coherent monochromatic 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Spontaneous and stimulated radiation (photon emmisio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Characteristics of laser l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704880" y="2108160"/>
            <a:ext cx="4329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Coherenc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all photons in the same phase, of the same E and the same direction of spreadin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Monochromac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one color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Directionality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minimal diffrac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rcRect l="46072" t="0" r="9253" b="50023"/>
          <a:stretch/>
        </p:blipFill>
        <p:spPr>
          <a:xfrm>
            <a:off x="5370480" y="1498680"/>
            <a:ext cx="32590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4"/>
          <p:cNvGrpSpPr/>
          <p:nvPr/>
        </p:nvGrpSpPr>
        <p:grpSpPr>
          <a:xfrm>
            <a:off x="5303880" y="3017880"/>
            <a:ext cx="3686040" cy="2741400"/>
            <a:chOff x="5303880" y="3017880"/>
            <a:chExt cx="3686040" cy="2741400"/>
          </a:xfrm>
        </p:grpSpPr>
        <p:pic>
          <p:nvPicPr>
            <p:cNvPr id="194" name="Picture 5" descr=""/>
            <p:cNvPicPr/>
            <p:nvPr/>
          </p:nvPicPr>
          <p:blipFill>
            <a:blip r:embed="rId2"/>
            <a:stretch/>
          </p:blipFill>
          <p:spPr>
            <a:xfrm>
              <a:off x="5303880" y="3017880"/>
              <a:ext cx="338148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6"/>
            <p:cNvSpPr/>
            <p:nvPr/>
          </p:nvSpPr>
          <p:spPr>
            <a:xfrm>
              <a:off x="7524720" y="3227400"/>
              <a:ext cx="1258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Laser ligh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Text Box 7"/>
            <p:cNvSpPr/>
            <p:nvPr/>
          </p:nvSpPr>
          <p:spPr>
            <a:xfrm>
              <a:off x="7578720" y="4246560"/>
              <a:ext cx="1411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ormal ligh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Basic elements of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rcRect l="1371" t="14983" r="1638" b="3322"/>
          <a:stretch/>
        </p:blipFill>
        <p:spPr>
          <a:xfrm>
            <a:off x="1428840" y="2357280"/>
            <a:ext cx="6286320" cy="32864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3"/>
          <p:cNvSpPr/>
          <p:nvPr/>
        </p:nvSpPr>
        <p:spPr>
          <a:xfrm>
            <a:off x="2143080" y="300024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71760" y="2428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313280" y="2625840"/>
            <a:ext cx="138636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Impermeab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mirro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2916360" y="2643120"/>
            <a:ext cx="212868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Laser pump (source of energy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5072040" y="2533680"/>
            <a:ext cx="185724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Semi-permeable mirror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714760" y="4286160"/>
            <a:ext cx="257148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Active medium in the resonance box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6858000" y="3643200"/>
            <a:ext cx="1571760" cy="38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LASER BEA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TYPES OF LAS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According to wavelength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79280" y="2421000"/>
            <a:ext cx="446580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With visible light from 400-78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With invisible light fro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780-150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On the basis of the active material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5014800" y="2349360"/>
            <a:ext cx="367200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olid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Flui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Ga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mi-conduct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Types of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According to the way of emiss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Continuo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mpul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According to excitation sour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4665600" y="242100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Optic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With the use of self-dischar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Electroioniz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Therm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Chemic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Recombin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Lasers in medic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95280" y="134136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With coagulative effe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&lt; 6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n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Surgic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n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herapeutic (biostimulative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6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1100 n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Lasers with COAGULATIVE EFF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468360" y="1413000"/>
            <a:ext cx="81439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</a:rPr>
              <a:t>&lt; 600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 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Absorbed in pigments (melanin and hemoglobin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Accumulate Е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activate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r –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stop bleeding and obliterate small blood vessels (eye, skin, retina), tattoo removal, removal of the nevi, veruce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To stop bleeding in the digestive system, remove polypes and neoplasms of the digestive system, respiratory and urogenital system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Argon las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Neodium las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SURGICAL las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457200" y="1700280"/>
            <a:ext cx="8143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&gt;1100 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bsorbed in water, instant evapor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ser scalpel”: bloodless, narrow, sterile incis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 surgical treatments of the parenchymal organs,  in purulent diseases, malignant diseases and coagulation disord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2 las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Therapeutic (biostimulative)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457200" y="1700280"/>
            <a:ext cx="8143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од 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600-1100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Lasers of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low power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cold lasers);”soft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ome of them have only one, and some have more than one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of the outpu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t is slightly absorbed in water and pigments, thus the tissue penetration is deeper – biostimulativ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Helium-ne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He-Ne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galium-arsen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Ga-As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semi-conductor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Mechanism of action of biostimulative las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he exact mechanism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has not been yet completely determine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although there is very intensive research being done in this field.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All effects of the laserotherapy can be divided into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Verdana"/>
              <a:buAutoNum type="arabicPeriod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primar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or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direc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Verdana"/>
              <a:buAutoNum type="arabicPeriod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indirec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istory of the use of magnetic fiel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500040" y="1484280"/>
            <a:ext cx="814392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Greek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(province Magnesia;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ale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Egyptians, the Chine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VIII century Glaisault -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rst artificial magne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e No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was the first to present artificial magnets to the medical worl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Majority of European countries 1960-1985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4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n the USA in the 80's — devices for therapeutic purpo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4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n Slovenia (Maribor) for the first time in physical medici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RIMARY (DIRECT) EFFECTS of biostimulative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468360" y="1341360"/>
            <a:ext cx="81439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 Biochemical effect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Activa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enzyme substances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neurotransmitte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Releas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colloid substanc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 Bioelectric effec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Normalization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membranous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of the cel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 Bioenergetic effec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Stimula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ATP synthe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stimulation of energetic process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457200" y="274680"/>
            <a:ext cx="7570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RECT effects of biostimulative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457200" y="1484280"/>
            <a:ext cx="81439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ise from the primary effect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imulation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crocirc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imulation of the cellular excahnge of materia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imulation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ellular metabol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GENERAL THERAPEUTIC effects of biostimulative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ise from the described biological effect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Verdan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alges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Verdan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ti-inflammator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Verdan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ti-edematou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Verdan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omod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1. Analgesic effect of lasertotherapy - mechanis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ies the release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diators of inflamm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histamin, IL-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bradikinin, PG-E2, TNF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substance P)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mulates “rapid” А-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iber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odulates “gate control“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chanism of pain impulse transmission in the posterior horns of the spinal cord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rve conductibilit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stimulates production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ndogenous opioid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enkephalins and endorphin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us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yperpolarizati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 the cellular membrane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s th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in treshol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1. Analgesic effect of laserotherapy - mechanis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erotherapy has an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ndirect effec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n pain reduct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es muscl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a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ircula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blood and lymph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reases or eliminat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ema and ischemi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tissues an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gogenous substanc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2. Anti-inflammatory and </a:t>
            </a:r>
            <a:br>
              <a:rPr sz="2800"/>
            </a:b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3. Antiedematous eff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duces the release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diators of inflamati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(histamin, IL-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bradikinin, PG-E2, TNF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substance P)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ircul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blood and lymph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sorption of extravasate and elimination of metabolite; reduction of edema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mulates unspecific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umoral defen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increase of the synthesis of complements, lysosomes and interpheron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 of phagocyte activity of neutrophil Le and macrophage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ctivation of Т and B lymphocyt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457200" y="274680"/>
            <a:ext cx="8002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4. Biomodulation (biostimulative) effect of laser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exchang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rough the cellular membrane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itos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ynthesis of DNA and RN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hesis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АТP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mitochondrias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hesis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llag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number of collagen fibers,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s the effect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nzym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the basal epithelial lay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Application techniqu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457200" y="1413000"/>
            <a:ext cx="61308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Scanning 15-3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 grip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gg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poi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Laseropuncture (over the reflexogenic zon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468360" y="1341360"/>
            <a:ext cx="81439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1-1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spasmolytic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до 1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analgesic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300-600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biostimulative effect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око 6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antiedematou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1000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anti-inflammatory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recommended doses which are reduced by 30% after 3 - 5 day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Output po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5 - 10 mW by acupunctur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50 - 70 mW scann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radiation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W/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–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ength of radiation directed at a certain surface;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important for achieving a biological effe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ati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DOS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(density of Е)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J/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from 0,01 – 10 J/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  <a:ea typeface="Microsoft YaHei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biostimulative effect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10 J/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  <a:ea typeface="Microsoft YaHei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bioinhibitory effe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DURATION TIM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 - 10 min, maxim. 30 mi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ources of 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24000" y="1484280"/>
            <a:ext cx="82771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he use of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constant magnetic field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natural)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4572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magnetophor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4572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orseshoe magne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he use of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electromagnetic field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apparatus) which is created around the conductor when electricity flows through i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4572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low-frequency 2-1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4572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igh-frequency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1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7772400" y="4206960"/>
            <a:ext cx="1249200" cy="2511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7164360" y="2637000"/>
            <a:ext cx="144000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Final effect of 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457200" y="1484280"/>
            <a:ext cx="82915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Final effect of therapy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is significantly determined by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224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site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of application,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Method of radiation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of the aimed tissue,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numb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an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frequenc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of procedures, as well 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Pathological substrate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being affected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984960" y="5373720"/>
            <a:ext cx="1585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Radiation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5442840" y="5376960"/>
            <a:ext cx="1585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Tissu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50" name="AutoShape 5"/>
          <p:cNvCxnSpPr>
            <a:stCxn id="249" idx="1"/>
          </p:cNvCxnSpPr>
          <p:nvPr/>
        </p:nvCxnSpPr>
        <p:spPr>
          <a:xfrm flipH="1">
            <a:off x="4903200" y="5651280"/>
            <a:ext cx="454680" cy="1362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1" name="AutoShape 6"/>
          <p:cNvCxnSpPr>
            <a:endCxn id="249" idx="1"/>
          </p:cNvCxnSpPr>
          <p:nvPr/>
        </p:nvCxnSpPr>
        <p:spPr>
          <a:xfrm flipV="1">
            <a:off x="2555640" y="5651640"/>
            <a:ext cx="2802600" cy="133560"/>
          </a:xfrm>
          <a:prstGeom prst="straightConnector1">
            <a:avLst/>
          </a:prstGeom>
          <a:ln cap="sq" w="38160">
            <a:solidFill>
              <a:srgbClr val="f0000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2" name="AutoShape 7"/>
          <p:cNvCxnSpPr>
            <a:endCxn id="249" idx="1"/>
          </p:cNvCxnSpPr>
          <p:nvPr/>
        </p:nvCxnSpPr>
        <p:spPr>
          <a:xfrm flipV="1">
            <a:off x="5130360" y="5651280"/>
            <a:ext cx="229320" cy="140400"/>
          </a:xfrm>
          <a:prstGeom prst="straightConnector1">
            <a:avLst/>
          </a:prstGeom>
          <a:ln w="0">
            <a:noFill/>
          </a:ln>
        </p:spPr>
      </p:cxnSp>
      <p:sp>
        <p:nvSpPr>
          <p:cNvPr id="253" name="Text Box 8"/>
          <p:cNvSpPr/>
          <p:nvPr/>
        </p:nvSpPr>
        <p:spPr>
          <a:xfrm>
            <a:off x="3189960" y="5423040"/>
            <a:ext cx="1155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ynam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108600" y="5811840"/>
            <a:ext cx="145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a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685800" y="2781360"/>
            <a:ext cx="7772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HIGH-INTENSITY 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LASER THERAPY</a:t>
            </a:r>
            <a:br>
              <a:rPr sz="2800"/>
            </a:b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- HIL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High-intensity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Output powe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s on averag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30-50 times highe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comparison with conventional “cold“ therapeutic las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Optimal ratio of absorption and penetr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Unlimited depth of the tissue penetration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Photomechanical waves which block the pain are produced in the subcutaneous tissu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The main medicinal eff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Biostimulation +</a:t>
            </a:r>
            <a:r>
              <a:rPr b="1" lang="sr-Latn-R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200" spc="-1" strike="noStrike" u="sng">
                <a:solidFill>
                  <a:srgbClr val="ff0000"/>
                </a:solidFill>
                <a:uFillTx/>
                <a:latin typeface="Verdana"/>
              </a:rPr>
              <a:t>photomechanical stimul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 u="sng">
                <a:solidFill>
                  <a:srgbClr val="000000"/>
                </a:solidFill>
                <a:uFillTx/>
                <a:latin typeface="Verdana"/>
              </a:rPr>
              <a:t>Photomechanical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wave stimulates free nerve endings and other pain receptors in the subcutaneous tissue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it blocks the pathways of pain transmission in the nervous system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Improves local microcirculation and lymph draina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The main medicinal eff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200000"/>
              </a:lnSpc>
              <a:spcBef>
                <a:spcPts val="10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ong and long-lasting analge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10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en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10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-inflammato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10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-edematou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inuous m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Optimal therapeutic effect 810/980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n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or 1064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n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Deep penetration (10-12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c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!) power up to 12W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Without side eff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lse m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By wavelength of ~ 1000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n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Frequency of the pulse repetition 10-30 Hz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Immediate relief from pai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75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reatment lasts from 10-20 </a:t>
            </a:r>
            <a:r>
              <a:rPr b="0" lang="de-DE" sz="23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75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herapy usually consists of 10-15 appointments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ST-TRAUMATIC CONDITIONS AND SPORTS INJURIES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stortion, contusion, tendinitis, tendovaginitis, muscle rupture, entesitis and entesopathy, fresh fractures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CHANGES ON BLOOD VESSELS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arices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lcus varicosum, Mb. Raunauyd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KIN DISEASES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czema, acne, furunculi, herpes simplex, herpes zoster, anal fissures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YNECOLOGY AND UROLOGY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nexitis, endocervicitis, cervical erosions, mastitis, urethritis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PHTHALMOLOGY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laucoma, retinal ablation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HEUMATIC DISEASES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lammatory diseases in remission, degenerative, extra-articular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2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ildren – the area of the bone epyphises during the  growth perio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ye are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area of the thyroid gland, gonades and other endocrine gland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gnancy (abdomen and lower back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ce maker (chest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rombosis and thrombophleb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pilepsy (head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rotective meas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Glasses with a special filter (cataract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 room with good and uniform lighting, without mirrors, without lacquered surfac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Do not look into the laser beam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Primary effects of the magnetic fie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netic field causes vibrations of cellular membranes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, thei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yperpolarization</a:t>
            </a:r>
            <a:r>
              <a:rPr b="1" i="1" lang="sr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and the increased activity of ionic pump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Periodic permeability of the cellular membrane without energy cos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Increase of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pO2 up t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200%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Increase of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AT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improves the function of cells and tissu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Secondary biological effects of the magnetic fiel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asodilation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(increase of circulation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tiedemato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ti-inflammatory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ophi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mproved tissue heal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rease of blood viscosity (antithrombotic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ment of rheological blood characteristic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algesi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dativ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ment of immun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mulation of endocrinal func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Electromagnetic therapeutic apparat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79280" y="1484280"/>
            <a:ext cx="5472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magnetic therapeutic apparatus consists of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Control uni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generator of electrical impulses)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an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Solenoi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(wire in the shape of coil through which electricity flows) - in the form of plates, antennas, hoops, mattresses, cushions, cuffs, special chai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Technique of appl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1700280"/>
            <a:ext cx="8143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ocal –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on the injured part of the bod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Reflexive –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on the vegetative gangl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General –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affects the whole body, except the he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57200" y="274680"/>
            <a:ext cx="70675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Magnetic fie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457200" y="1484280"/>
            <a:ext cx="6059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ЕF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lectric field strength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МF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gnetic field induc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;                                                                                В [Т; mT]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gnetic field line density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gnetic field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u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orce of acti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 the MF on surrounding object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22440" y="798480"/>
            <a:ext cx="18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21:33:56Z</dcterms:created>
  <dc:creator>+++</dc:creator>
  <dc:description/>
  <dc:language>en-US</dc:language>
  <cp:lastModifiedBy>Nada Miklja</cp:lastModifiedBy>
  <dcterms:modified xsi:type="dcterms:W3CDTF">2023-09-26T09:10:32Z</dcterms:modified>
  <cp:revision>928</cp:revision>
  <dc:subject/>
  <dc:title>PowerPoint-Präsentation</dc:title>
</cp:coreProperties>
</file>